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288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500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56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500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556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440" y="273600"/>
            <a:ext cx="92595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87000" cy="6867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395280" y="304920"/>
            <a:ext cx="882720" cy="154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JSON" TargetMode="External"/><Relationship Id="rId2" Type="http://schemas.openxmlformats.org/officeDocument/2006/relationships/hyperlink" Target="http://en.wikipedia.org/wiki/JSON" TargetMode="External"/><Relationship Id="rId3" Type="http://schemas.openxmlformats.org/officeDocument/2006/relationships/hyperlink" Target="http://en.wikipedia.org/wiki/JSON" TargetMode="External"/><Relationship Id="rId4" Type="http://schemas.openxmlformats.org/officeDocument/2006/relationships/hyperlink" Target="http://en.wikipedia.org/wiki/JSON" TargetMode="External"/><Relationship Id="rId5" Type="http://schemas.openxmlformats.org/officeDocument/2006/relationships/hyperlink" Target="http://en.wikipedia.org/wiki/JSON" TargetMode="External"/><Relationship Id="rId6" Type="http://schemas.openxmlformats.org/officeDocument/2006/relationships/hyperlink" Target="http://en.wikipedia.org/wiki/JSON" TargetMode="External"/><Relationship Id="rId7" Type="http://schemas.openxmlformats.org/officeDocument/2006/relationships/hyperlink" Target="http://en.wikipedia.org/wiki/JSON" TargetMode="External"/><Relationship Id="rId8" Type="http://schemas.openxmlformats.org/officeDocument/2006/relationships/hyperlink" Target="http://en.wikipedia.org/wiki/JSON" TargetMode="External"/><Relationship Id="rId9" Type="http://schemas.openxmlformats.org/officeDocument/2006/relationships/hyperlink" Target="http://en.wikipedia.org/wiki/JSON" TargetMode="External"/><Relationship Id="rId10" Type="http://schemas.openxmlformats.org/officeDocument/2006/relationships/hyperlink" Target="http://tools.ietf.org/html/rfc4627" TargetMode="External"/><Relationship Id="rId11" Type="http://schemas.openxmlformats.org/officeDocument/2006/relationships/hyperlink" Target="http://tools.ietf.org/html/rfc4627" TargetMode="External"/><Relationship Id="rId12" Type="http://schemas.openxmlformats.org/officeDocument/2006/relationships/hyperlink" Target="http://tools.ietf.org/html/rfc4627" TargetMode="External"/><Relationship Id="rId13" Type="http://schemas.openxmlformats.org/officeDocument/2006/relationships/hyperlink" Target="http://tools.ietf.org/html/rfc4627" TargetMode="External"/><Relationship Id="rId14" Type="http://schemas.openxmlformats.org/officeDocument/2006/relationships/hyperlink" Target="http://tools.ietf.org/html/rfc4627" TargetMode="External"/><Relationship Id="rId15" Type="http://schemas.openxmlformats.org/officeDocument/2006/relationships/hyperlink" Target="http://tools.ietf.org/html/rfc4627" TargetMode="External"/><Relationship Id="rId16" Type="http://schemas.openxmlformats.org/officeDocument/2006/relationships/hyperlink" Target="http://tools.ietf.org/html/rfc4627" TargetMode="External"/><Relationship Id="rId17" Type="http://schemas.openxmlformats.org/officeDocument/2006/relationships/hyperlink" Target="http://tools.ietf.org/html/rfc4627" TargetMode="External"/><Relationship Id="rId18" Type="http://schemas.openxmlformats.org/officeDocument/2006/relationships/hyperlink" Target="http://tools.ietf.org/html/rfc4627" TargetMode="External"/><Relationship Id="rId19" Type="http://schemas.openxmlformats.org/officeDocument/2006/relationships/hyperlink" Target="http://www.developer.com/lang/jscript/article.php/3596836" TargetMode="External"/><Relationship Id="rId20" Type="http://schemas.openxmlformats.org/officeDocument/2006/relationships/hyperlink" Target="http://www.developer.com/lang/jscript/article.php/3596836" TargetMode="External"/><Relationship Id="rId21" Type="http://schemas.openxmlformats.org/officeDocument/2006/relationships/hyperlink" Target="http://www.developer.com/lang/jscript/article.php/3596836" TargetMode="External"/><Relationship Id="rId22" Type="http://schemas.openxmlformats.org/officeDocument/2006/relationships/hyperlink" Target="http://www.developer.com/lang/jscript/article.php/3596836" TargetMode="External"/><Relationship Id="rId23" Type="http://schemas.openxmlformats.org/officeDocument/2006/relationships/hyperlink" Target="http://www.developer.com/lang/jscript/article.php/3596836" TargetMode="External"/><Relationship Id="rId24" Type="http://schemas.openxmlformats.org/officeDocument/2006/relationships/hyperlink" Target="http://www.developer.com/lang/jscript/article.php/3596836" TargetMode="External"/><Relationship Id="rId25" Type="http://schemas.openxmlformats.org/officeDocument/2006/relationships/hyperlink" Target="http://www.developer.com/lang/jscript/article.php/3596836" TargetMode="External"/><Relationship Id="rId26" Type="http://schemas.openxmlformats.org/officeDocument/2006/relationships/hyperlink" Target="http://www.developer.com/lang/jscript/article.php/3596836" TargetMode="External"/><Relationship Id="rId27" Type="http://schemas.openxmlformats.org/officeDocument/2006/relationships/hyperlink" Target="http://www.developer.com/lang/jscript/article.php/3596836" TargetMode="External"/><Relationship Id="rId28" Type="http://schemas.openxmlformats.org/officeDocument/2006/relationships/hyperlink" Target="http://www.developer.com/lang/jscript/article.php/3596836" TargetMode="External"/><Relationship Id="rId29" Type="http://schemas.openxmlformats.org/officeDocument/2006/relationships/hyperlink" Target="http://www.developer.com/lang/jscript/article.php/3596836" TargetMode="External"/><Relationship Id="rId30" Type="http://schemas.openxmlformats.org/officeDocument/2006/relationships/hyperlink" Target="http://www.developer.com/lang/jscript/article.php/3596836" TargetMode="External"/><Relationship Id="rId31" Type="http://schemas.openxmlformats.org/officeDocument/2006/relationships/hyperlink" Target="http://www.developer.com/lang/jscript/article.php/3596836" TargetMode="External"/><Relationship Id="rId32" Type="http://schemas.openxmlformats.org/officeDocument/2006/relationships/hyperlink" Target="http://www.developer.com/lang/jscript/article.php/3596836" TargetMode="External"/><Relationship Id="rId33" Type="http://schemas.openxmlformats.org/officeDocument/2006/relationships/hyperlink" Target="http://www.developer.com/lang/jscript/article.php/3596836" TargetMode="External"/><Relationship Id="rId3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u.wikipedia.org/wiki/Ajax_(programazioa" TargetMode="External"/><Relationship Id="rId2" Type="http://schemas.openxmlformats.org/officeDocument/2006/relationships/hyperlink" Target="http://eu.wikipedia.org/wiki/Ajax_(programazioa" TargetMode="External"/><Relationship Id="rId3" Type="http://schemas.openxmlformats.org/officeDocument/2006/relationships/hyperlink" Target="http://eu.wikipedia.org/wiki/Ajax_(programazioa" TargetMode="External"/><Relationship Id="rId4" Type="http://schemas.openxmlformats.org/officeDocument/2006/relationships/hyperlink" Target="http://eu.wikipedia.org/wiki/Ajax_(programazioa" TargetMode="External"/><Relationship Id="rId5" Type="http://schemas.openxmlformats.org/officeDocument/2006/relationships/hyperlink" Target="http://eu.wikipedia.org/wiki/Ajax_(programazioa" TargetMode="External"/><Relationship Id="rId6" Type="http://schemas.openxmlformats.org/officeDocument/2006/relationships/hyperlink" Target="http://eu.wikipedia.org/wiki/Ajax_(programazioa" TargetMode="External"/><Relationship Id="rId7" Type="http://schemas.openxmlformats.org/officeDocument/2006/relationships/hyperlink" Target="http://eu.wikipedia.org/wiki/Ajax_(programazioa" TargetMode="External"/><Relationship Id="rId8" Type="http://schemas.openxmlformats.org/officeDocument/2006/relationships/hyperlink" Target="http://eu.wikipedia.org/wiki/Ajax_(programazioa" TargetMode="External"/><Relationship Id="rId9" Type="http://schemas.openxmlformats.org/officeDocument/2006/relationships/hyperlink" Target="http://eu.wikipedia.org/wiki/Ajax_(programazioa" TargetMode="External"/><Relationship Id="rId10" Type="http://schemas.openxmlformats.org/officeDocument/2006/relationships/hyperlink" Target="http://eu.wikipedia.org/wiki/Ajax_(programazioa" TargetMode="External"/><Relationship Id="rId11" Type="http://schemas.openxmlformats.org/officeDocument/2006/relationships/hyperlink" Target="http://eu.wikipedia.org/wiki/Ajax_(programazioa" TargetMode="External"/><Relationship Id="rId12" Type="http://schemas.openxmlformats.org/officeDocument/2006/relationships/hyperlink" Target="http://en.wikipedia.org/wiki/Ajax_(programming" TargetMode="External"/><Relationship Id="rId13" Type="http://schemas.openxmlformats.org/officeDocument/2006/relationships/hyperlink" Target="http://en.wikipedia.org/wiki/Ajax_(programming" TargetMode="External"/><Relationship Id="rId14" Type="http://schemas.openxmlformats.org/officeDocument/2006/relationships/hyperlink" Target="http://en.wikipedia.org/wiki/Ajax_(programming" TargetMode="External"/><Relationship Id="rId15" Type="http://schemas.openxmlformats.org/officeDocument/2006/relationships/hyperlink" Target="http://en.wikipedia.org/wiki/Ajax_(programming" TargetMode="External"/><Relationship Id="rId16" Type="http://schemas.openxmlformats.org/officeDocument/2006/relationships/hyperlink" Target="http://en.wikipedia.org/wiki/Ajax_(programming" TargetMode="External"/><Relationship Id="rId17" Type="http://schemas.openxmlformats.org/officeDocument/2006/relationships/hyperlink" Target="http://en.wikipedia.org/wiki/Ajax_(programming" TargetMode="External"/><Relationship Id="rId18" Type="http://schemas.openxmlformats.org/officeDocument/2006/relationships/hyperlink" Target="http://en.wikipedia.org/wiki/Ajax_(programming" TargetMode="External"/><Relationship Id="rId19" Type="http://schemas.openxmlformats.org/officeDocument/2006/relationships/hyperlink" Target="http://en.wikipedia.org/wiki/Ajax_(programming" TargetMode="External"/><Relationship Id="rId20" Type="http://schemas.openxmlformats.org/officeDocument/2006/relationships/hyperlink" Target="http://en.wikipedia.org/wiki/Ajax_(programming" TargetMode="External"/><Relationship Id="rId21" Type="http://schemas.openxmlformats.org/officeDocument/2006/relationships/hyperlink" Target="http://en.wikipedia.org/wiki/Ajax_(programming" TargetMode="External"/><Relationship Id="rId22" Type="http://schemas.openxmlformats.org/officeDocument/2006/relationships/hyperlink" Target="http://en.wikipedia.org/wiki/Ajax_(programming" TargetMode="External"/><Relationship Id="rId23" Type="http://schemas.openxmlformats.org/officeDocument/2006/relationships/hyperlink" Target="http://en.wikipedia.org/wiki/Ajax_(programming" TargetMode="External"/><Relationship Id="rId24" Type="http://schemas.openxmlformats.org/officeDocument/2006/relationships/hyperlink" Target="http://www.w3schools.com/ajax/default.asp" TargetMode="External"/><Relationship Id="rId25" Type="http://schemas.openxmlformats.org/officeDocument/2006/relationships/hyperlink" Target="http://www.w3schools.com/ajax/default.asp" TargetMode="External"/><Relationship Id="rId26" Type="http://schemas.openxmlformats.org/officeDocument/2006/relationships/hyperlink" Target="http://www.w3schools.com/ajax/default.asp" TargetMode="External"/><Relationship Id="rId27" Type="http://schemas.openxmlformats.org/officeDocument/2006/relationships/hyperlink" Target="http://www.w3schools.com/ajax/default.asp" TargetMode="External"/><Relationship Id="rId28" Type="http://schemas.openxmlformats.org/officeDocument/2006/relationships/hyperlink" Target="http://www.w3schools.com/ajax/default.asp" TargetMode="External"/><Relationship Id="rId29" Type="http://schemas.openxmlformats.org/officeDocument/2006/relationships/hyperlink" Target="http://www.w3schools.com/ajax/default.asp" TargetMode="External"/><Relationship Id="rId30" Type="http://schemas.openxmlformats.org/officeDocument/2006/relationships/hyperlink" Target="http://www.w3schools.com/ajax/default.asp" TargetMode="External"/><Relationship Id="rId31" Type="http://schemas.openxmlformats.org/officeDocument/2006/relationships/hyperlink" Target="http://www.w3schools.com/ajax/default.asp" TargetMode="External"/><Relationship Id="rId32" Type="http://schemas.openxmlformats.org/officeDocument/2006/relationships/hyperlink" Target="http://www.w3schools.com/ajax/default.asp" TargetMode="External"/><Relationship Id="rId33" Type="http://schemas.openxmlformats.org/officeDocument/2006/relationships/hyperlink" Target="http://www.w3schools.com/ajax/default.asp" TargetMode="External"/><Relationship Id="rId3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8762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 bidezko programazioa praktikaren bitartez:</a:t>
            </a:r>
            <a:br>
              <a:rPr sz="4400"/>
            </a:b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 aurreratu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Igor Letur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lhuyar Fundazioa - I+G sai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UEU 2007/07/18-1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505320" y="-360"/>
            <a:ext cx="67816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input id=“izena” type=“text” onchange=“eskaeraegin()”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div id=“datuak”&gt;&lt;/div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function eskaeraegin(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document.body.style.cursor='wait'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xmlHttp=GetXmlHttpObject(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xmlHttp.onreadystatechange=datuakbistaratu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url='/datuak.py?izena='+document.getElementById('izena').value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xmlHttp.open("GET",url,true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xmlHttp.send(null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function datuakbistaratu(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if (xmlHttp.readyState==4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datuak=eval('('+xmlHttp.responseText+')'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for (i=0;i&lt;datuak.length;i++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lerroa=document.createElement(‘tr’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document.getElementById(‘datuak’).appendChild(lerroa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gelaska=document.createElement(‘td’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lerroa.appendChild(gelaska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gelaska.innerHTML=datuak.izena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gelaska=document.createElement(‘td’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lerroa.appendChild(gelaska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gelaska.innerHTML=datuak.balioa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document.body.style.cursor=‘default'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971800"/>
            <a:ext cx="35053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izena’: ‘NA’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balioa’: ‘11.222.333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izena’: ‘Tlf.’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balioa’: ‘555 4444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izena’: ‘Herria’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balioa’: ‘Arrasate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Erantzuna JSON-e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Abantail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ML baino gutxiago okupatzen d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Maneiatzeko erraza 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skoz azkarrago bihurtzen da objektu XML-a DOM bai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Hizkuntza askok dituzte JSON erabiltzeko liburutegi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Desabantail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bjektuak errepresentatzeko soilik balio du, XML askoz zabalagoa 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Normalean 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eval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erabiltzen denez, kodea ere exekuta daiteke, beraz segurtasun arazoak sor daitezk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Erantzuna JSON-e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Ingelesezko Wikipedian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en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wikipedia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org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wiki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/J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JSON espezifikazioa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tools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ietf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4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5"/>
              </a:rPr>
              <a:t>org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6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7"/>
              </a:rPr>
              <a:t>html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8"/>
              </a:rPr>
              <a:t>/rfc462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JSON tutoriala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9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0"/>
              </a:rPr>
              <a:t>www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1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2"/>
              </a:rPr>
              <a:t>developer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3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4"/>
              </a:rPr>
              <a:t>com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5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6"/>
              </a:rPr>
              <a:t>lang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7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8"/>
              </a:rPr>
              <a:t>jscript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9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0"/>
              </a:rPr>
              <a:t>article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1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2"/>
              </a:rPr>
              <a:t>php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3"/>
              </a:rPr>
              <a:t>/359683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 arazket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AJAX-en teknika asko erabiltzen direnez, erroreak daudenean edo ez denean espero dena gertatzen, akatsa toki askotan egon daitek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Zerbitzariak asinkronoki itzultzen duen testu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JavaScript kode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CSS-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Normalean lehen pausua JavaScript araztea izaten 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Hor ikusten bada zerbitzariak asinkronoki itzultzen duena gaizki dagoela, zerbitzarikoa araztu beharko 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 arazket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JavaScript araztek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Firefo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Web Developer Toolba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DOM Inspector: DOM zuhaitzaren azken egoera ikustek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View generated source: dokumentuaren iturburua ikusteko, baina JavaScript bidez egindako aldaketak bar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Firebu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Arazketa egiteko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JavaScript-a toki jakin baten eta baldintza jakin batzuen arabera geldit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Pausoz-pauso exekutat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Aldagaien balioak ikus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 arazket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JavaScript arazteko (II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Internet Explor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Microsoft Script Debugge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Internet Explorer-ekin da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Normalean desgaituta dago, aukeretan gait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JavaScript-a toki jakin baten eta baldintza jakin batzuen arabera geldit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Pausoz-pauso exekutat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Aldagaien balioak ikus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Deiak kanpoko zerbitzarieta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JavaScript bidez egiten diren dei asinkronoak kanpoko zerbitzari batera badira, arazoak egon daitezke nabigatzaileen segurtasun politikengati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Izan ere, erabiltzailea web gune batera doanean berak erabaki du horra sartzea; baina orri hori beste toki bateko gauzak eskatzen hasten bada, arriskutsua izan daitekeela pentsa dezake nabigatzaile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Deiak kanpoko zerbitzarieta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Internet Explore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Segurtasuna zonen arabera antolatu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Disko gogorreko fitxategi bati edozer egiten uzten 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HTTP bidez jaitsitako fitxategi bat JavaScript bidez beste toki bati eskaera egiten hasten bada, konfirmazioa eskatuko d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Firefox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PI bat erabili behar duzu erabiltzaileari konfirmazioa eskatzek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PIak kasu egingo die disko gogorreko fitxategietatik datozen eskaere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HTTP bidez jaitsitako fitxategien eskaerei, soilik script-ak sinatuak badau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Deiak kanpoko zerbitzarieta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Konplikatua beti funtzionatuko duen zerbait egit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Errazena: gure zerbitzarian kanpoko zerbitzariari eskaera egingo dion script bat idazt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Esteka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Euskarazko Wikipedia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eu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wikipedia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org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wiki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Ajax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_(programazioa</a:t>
            </a: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Ingelesezko Wikipedia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en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4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5"/>
              </a:rPr>
              <a:t>wikipedia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6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7"/>
              </a:rPr>
              <a:t>org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8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9"/>
              </a:rPr>
              <a:t>wiki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0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1"/>
              </a:rPr>
              <a:t>Ajax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2"/>
              </a:rPr>
              <a:t>_(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3"/>
              </a:rPr>
              <a:t>programming</a:t>
            </a: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Tutoriala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4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5"/>
              </a:rPr>
              <a:t>www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6"/>
              </a:rPr>
              <a:t>.w3schools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7"/>
              </a:rPr>
              <a:t>com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8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9"/>
              </a:rPr>
              <a:t>ajax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0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1"/>
              </a:rPr>
              <a:t>default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2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3"/>
              </a:rPr>
              <a:t>a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 aurreratu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Erantzuna XML-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Erantzuna JSON-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AJAX arazke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Deiak kanpoko zerbitzarietar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Esteka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AJAX-en erabilera sinpleen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Deitzen den funtzio asinkronoak testu soila edo HTML formateatua itzultz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rantzuna zuzenean elementu baten 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innerHTML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propietatean idazt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Erantzuna beste formatu batzuetan egon daitek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J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Erantzuna XML-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Deitzen den funtzio asinkronoak bueltatu beharrekoa batzuetan konplikatua da testu-soil gisa kodetzeko, hainbat elementuetako edukiak direnean adibid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Horrelako kasuetan XML formatu egokia d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lementu asko har ditzake barne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Nahi dugun formatua erabili dezakegu nahi dugun informazio ezberdina kodetzek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Erantzuna XML-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Erantzuna XML-n bueltatzeko, </a:t>
            </a:r>
            <a:r>
              <a:rPr b="0" i="1" lang="eu-ES" sz="2400" spc="-1" strike="noStrike">
                <a:solidFill>
                  <a:srgbClr val="000000"/>
                </a:solidFill>
                <a:latin typeface="Verdana"/>
              </a:rPr>
              <a:t>Content-type</a:t>
            </a: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 goiburuak 'text/xml' balioa izan behar 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Erantzuna XMLHttpRequest objektuaren </a:t>
            </a:r>
            <a:r>
              <a:rPr b="0" i="1" lang="eu-ES" sz="2400" spc="-1" strike="noStrike">
                <a:solidFill>
                  <a:srgbClr val="000000"/>
                </a:solidFill>
                <a:latin typeface="Verdana"/>
              </a:rPr>
              <a:t>responseXML</a:t>
            </a: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 aldagaian irakurriko dug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Erantzuna ez da testu-katea izango, DOM zuhaitza baizik, eta berau manipulatzeko DOM-eko funtzio guztiak erabili ahal izango ditug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505320" y="-360"/>
            <a:ext cx="67816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input id=“izena” type=“text” onchange=“eskaeraegin()”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table id=“datuak”&gt;&lt;/tabl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function eskaeraegin(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document.body.style.cursor='wait'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xmlHttp=GetXmlHttpObject(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xmlHttp.onreadystatechange=datuakbistaratu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url='/datuak.py?izena='+document.getElementById('izena').value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xmlHttp.open("GET",url,true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xmlHttp.send(null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function datuakbistaratu(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if (xmlHttp.readyState==4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datuak=xmlHttp.responseXML.getElementsByTagName(‘datua’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for (i=0;i&lt;datuak.length;i++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lerroa=document.createElement(‘tr’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document.getElementById(‘datuak’).appendChild(lerroa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for (datuinfo in datuak[i].childNod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if (datuinfo.nodeType==datuinfo.ELEMENT_NOD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gelaska=document.createElement(‘td’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lerroa.appendChild(gelaska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gelaska.innerHTML=datuinfo.childNodes[0].data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document.body.style.cursor=‘default'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971800"/>
            <a:ext cx="35053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datuak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datu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izena&gt;NA&lt;/izen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balioa&gt;11.222.333&lt;/balio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/datu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datu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izena&gt;Tlf.&lt;/izen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balioa&gt;555 4444&lt;/balio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/datu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datu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izena&gt;Herria&lt;/izen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balioa&gt;Arrasate&lt;/balio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/datu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/datuak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Erantzuna JSON-e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JSON: </a:t>
            </a:r>
            <a:r>
              <a:rPr b="0" i="1" lang="eu-ES" sz="2400" spc="-1" strike="noStrike">
                <a:solidFill>
                  <a:srgbClr val="000000"/>
                </a:solidFill>
                <a:latin typeface="Verdana"/>
              </a:rPr>
              <a:t>JavaScript Object No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Objektuak eta beste datu-egiturak adierazteko testu-formatu b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Ondoko datu-motak onartzen dit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Zenbaki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String-ak (komatxo bikoitzen arte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Boolearrak (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true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edo 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rray-ak ([ eta ] artean eta komaz bereizi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bjektuak (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“katea”: “balioa”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pareak, { eta } artean eta komaz bereizi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Erantzuna JSON-e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Adibide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izena": “Mikel"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abizena": “Etxagibel"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helbidea"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kalea": “Goiko Kale"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zenbakia”: 2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herria": “Obaba"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postakodea": 2099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}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telefonoak"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[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555 4444"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555 6666“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Erantzuna JSON-e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JSON formatuan dagoen testua erraz bihur dezakegu JavaScript-eko objektu, </a:t>
            </a:r>
            <a:r>
              <a:rPr b="0" i="1" lang="eu-ES" sz="2400" spc="-1" strike="noStrike">
                <a:solidFill>
                  <a:srgbClr val="000000"/>
                </a:solidFill>
                <a:latin typeface="Verdana"/>
              </a:rPr>
              <a:t>eval</a:t>
            </a: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 sinple bateki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var pertsonaobjektua=eval(“(”+pertsonaJSONkatea+“)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Orduan honela egin ahal izango dug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pertsonaobjektua.ize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pertsonaobjektua.helbidea.kal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pertsonaobjektua.telefonoak[1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JavaScript-ez gain, beste programazio-lengoaia askok dituzte JSON testu bat objektu bihurtzeko funtzio edo liburutegi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9:43:12Z</dcterms:created>
  <dc:creator>...</dc:creator>
  <dc:description/>
  <dc:language>en-US</dc:language>
  <cp:lastModifiedBy>Igor Leturia</cp:lastModifiedBy>
  <dcterms:modified xsi:type="dcterms:W3CDTF">2007-07-17T13:43:40Z</dcterms:modified>
  <cp:revision>545</cp:revision>
  <dc:subject/>
  <dc:title>Presentación de PowerPoint</dc:title>
</cp:coreProperties>
</file>